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2DAD-B055-43A9-A869-E95A8EF0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F802-EF22-4C06-AF76-F774E8F7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5860-262E-40CD-B5E6-85EC730D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B5F3-D781-4577-B145-BD04A2CB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071E-ED54-4DAE-9683-24C8DF74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DCE5-BA86-44F5-AE35-B19F3100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9935-D111-466B-9D44-56E33AEA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6782-425B-4257-BE04-7F1B9BEA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B5A2-5575-44B3-BE86-A04FA89F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23DE-8A2F-47AA-954D-25BBA243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4844-766B-41B1-8393-FC393F02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9DCA-89B6-4B70-BC7F-29A6E015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594D-7A26-47B6-B570-06BCE12B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042B-E365-4373-B774-42A7F513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F0B7-8E99-4273-8165-F6A9B3CC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CCE6-A0D6-4C66-AC1B-EE7A5149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767A-7082-49AC-8F3B-F1F03D94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918C-910B-477C-89C6-248B66C9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8B19-4FF9-40D4-B21E-B0CF9AA7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C4FC-A0E2-451B-B299-E9F67BE7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D66E-37C4-400C-88C2-E8105385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60F7-DD04-4126-BCBC-A91F50B0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EDE1-C145-425C-949E-62AEF172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A71-FAAC-4EA1-934B-DDC74316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0877-245C-4242-9733-CC1CE80DF8C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B0F1-9632-472D-B885-D750AD6F334D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mlouvy s rodiči jako cesta ke komunikaci se škol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hDr. Jana Zapletal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Smlouvy s rodiči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pozad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sané x úst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pro spoluprác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ísemná pravidla podtrhují vážnost sdělen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áhají k větší zodpovědnosti a omezují manipul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ech nedorozumění jsou odrazovým můstkem k další komunik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ují spoluzodpovědnost rodičů a šk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a sankce za nedodržení domlu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Co je třeba dodrže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fektivita smluvních ujednání je ovlivně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ájemnou důvěr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ozumitelností nasta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ím platnosti smlouvy v čase a možnosti jejich úprav (dlouhodobé, krátkodobé, krizové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ným specifikováním opatř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ením zodpovědností plnění závazků, forem komunikace a možných sank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nímání možností smlouvy v kontextu typu řešeného problé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Proč vlastně smlouvy s rodiči..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difikace pravidel vede k jejich větší srozumitelnosti a tím se otvírá prostor k jejich dodrž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pracuje zejména s faktory spoluprá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tože si je vědoma opory v zákonných normách (školský zákon, zákon o rodině §31-zodpovědnost rodičů,§43 a §44 výchovná opatření, trestní zákon – ohrožení výchovy dětí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eventivní charakter smluv i ve vztahu k dění ve šk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idelné vyhodnocování poskytuje dobrou zpětnou vazbu oběma stran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Smlouvy s rodiči jako cesta ke komunikaci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valita smluvního vztahu vždy závisí na přístupu obou st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a je živý dokument, který nemá být pouhým potvrzením formal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y svádí k porušování x současně dávají prostor k nastaven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zcela zřejmé, že vždy budou tací, kteří pravidla nebudou dodržovat, ale to nic nemění na potřebě o věcech komunikova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kuji za pozorn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040960" cy="4403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dina a škola - instituce, které směřují k transmisi kultury, k rozvoji jednotlivce na pozadí vztahové sítě prostřednictvím vzdělávání a výchov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růstá váha školního kapitálu, dětství se „prodlužuje“ až do dospělost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není pouhým rámcem pro rozvíjení se, představuje určité nároky, zkoušky i konflikty, které vstupují do mezigeneračních vztahů a formují identitu žá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dává možnost opustit svoje rodiče a současně v nich pokračo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0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Rodina a škola - milníky přípravy na život 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Vztah rodiny a školy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kola a rodina mají přitom odlišná poslání, která jsou na sobě vzájemně závislá a proto je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tah často vyhroce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dič postupuje jako spotřebitel a hledá školu, která mu pomůže naplnit očekávání vkládaná do jeho d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asto postupuje v logice vlastních zkušeností a je limitován svými možnost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Rodina  versus škola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di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emocionální zázemí, vztahy, vzory jednání i pracovních činností, způsoby náhledu na realitu i její posuzování a hodnocení, současně dává zkušenosti z prožitých konfliktů i radosti, setkání s  odměnou i tre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Škol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pravidla, vědomosti, dovednosti a vytváří vztahy, které pomáhají jednotlivci najít místo ve společnosti a také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ní mikrosvět a jeho rizika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působy dosahování cílů školy jako institu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Étos vzdělá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tomnost osobních příběhů (učitel, ředitel, žá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tah a vzta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amota a nesnadná komun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rach a zastraš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Školní psycholog a podpora komunikace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tvoření vnitřního systému komunikace, který ovlivňuje kvalitu vztahové sítě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koordinátorem služeb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oskytovaných ŠPP s definováním odpovědnos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růvodc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školní docházkou žáka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ecialistou na vztah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ývoje a u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olupracovník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učitel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oradcem a konzultant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rodi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dstavu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jednotící prvek v intervenci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koordinuje opatření školy, rodiny a dalších odborníků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metodolog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komplexních nástrojů poznávání dětí a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hlavním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„nástrojem“ prevenc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e školním prostřed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tím, kdo pomáhá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vytvářet rovné podmínk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vzdělávání žáků s potřebou podpůrných opatř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nabízí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zultace s psychologem/speciálním pedagogem (telefonická, emailov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izové intervence, pomoc jednotlivcům i tříd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oc pedagogům i rodičů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naha podporovat spolupráci s rodiči a vytvářet netradiční formy komunikace (setkávání s rodiči o víkendech, karnevaly, plesy, drakiády, koncerty, burzy, výlety do zahraničí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občas také musí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hat“ na nespolupracující rodič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stupovat do rodin přes prostředníky (asistenti, OSPOD…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unikovat s hyperkritickými rodiči, zvládat agresivní rodiče (alkohol, drogy,vulgarita), pracovat s hyperprotektivními rodiči, zvládat komunikaci v době partnerských krizí a rozvodů, pomáhat matkám samoživitelkám a bezradným rodičům, pomáhat s existenciálními problémy…až po tzv. „průtokáč“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Hledání pomoci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tváříme různé typy dokumentů : „Co je psáno, to je dáno..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znikají smlouvy o nastavení podpůrných mechanismů při vzdělávání integrovaného žáka (IV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seznámení s vnitřními pravidly školy (školní řád, působení školního psychologa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pisy z jednání výchovných komisí, které vymezují pravidla další spolupráce mezi žákem-školou -rodino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zajištění omlouvání absencí žáků (co rodiče zajistí, na co budou dohlížet, jak se budou vzájemně informovat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na podporu změny v chování žáka, mají chara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rizového plánu (nepracující žák v hodině x práce po vyučování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v oblasti nefungujících vztahů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2:55:56Z</dcterms:created>
  <dc:creator>bodovav</dc:creator>
  <dc:description/>
  <dc:language>en-US</dc:language>
  <cp:lastModifiedBy>ZapletalovaJ</cp:lastModifiedBy>
  <dcterms:modified xsi:type="dcterms:W3CDTF">2011-04-04T06:42:45Z</dcterms:modified>
  <cp:revision>34</cp:revision>
  <dc:subject/>
  <dc:title>Koncepce poradenských služeb  poskytovaných ve škole </dc:title>
</cp:coreProperties>
</file>